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DF7-16E1-42DB-8E0F-806E93C7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AE8-EF10-4A9B-8D24-DE86B89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3A2-4B6B-448F-BB87-6B06C095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D13-565B-4792-A3F6-73D75C68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043-24F4-417D-98A1-DE08AA95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DC2-C46D-4847-9A2F-C832A46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DBC-D376-417C-8588-C2BDB1E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5B3-1574-48B2-8198-0B49A95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B98-16E3-4228-B72B-AD900EE2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0BA-D30B-42D6-8060-5DC1AFC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6B4-13BC-410A-8419-CEA5E98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470-5BC3-4096-940B-D4926618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ABC2-AAD4-4C35-9CEE-35833B13308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59480" y="4097880"/>
            <a:ext cx="11264760" cy="1922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كر بللي جايي ... كمِّل لل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تلاقي البداية ... بالسما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89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06080" y="821520"/>
            <a:ext cx="60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لي شو ناط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ما تقلي بك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إيمانك قاد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ديس إنت تص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2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435960" y="380520"/>
            <a:ext cx="9915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درب السما مقشو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محبة كلو مزر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ضل مرافق يس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للسما يا خ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6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402800"/>
            <a:ext cx="106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درب القداسة مليانة مح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لو شفتا قاسية ما تفكر صع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30:56Z</dcterms:created>
  <dc:creator>user</dc:creator>
  <dc:description/>
  <dc:language>en-US</dc:language>
  <cp:lastModifiedBy>user</cp:lastModifiedBy>
  <dcterms:modified xsi:type="dcterms:W3CDTF">2006-09-01T13:41:35Z</dcterms:modified>
  <cp:revision>14</cp:revision>
  <dc:subject/>
  <dc:title>Slide 1</dc:title>
</cp:coreProperties>
</file>